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dt" idx="1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198D8-9733-42D9-B4BC-36D28023D1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C0D70-EDD1-49D5-8636-6B67FFF2C4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dfdfe"/>
                </a:solidFill>
                <a:latin typeface="Calibri"/>
              </a:rPr>
              <a:t>Пресмыкающиеся (рептил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7766D-FC25-4EA0-B1E1-737631E889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мелеон – это ящериц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торая живёт на деревьях, обхватывая ветки хвостом и коготками. Хамелеон ловит насекомых своим длинным липким языком. Он меняет свой цвет, чтобы слиться с окружающим фоном. Это называется маскировкой, и она помогает хамелеонам скрыться от врагов. Глаза хамелеона могут одновременно смотреть в разные сторо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09639-9D34-47BD-865B-68F371C44B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озавры, жившие  на нашей планете миллионы лет назад  – также являются представителями класса пресмыкающих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озавры являются самыми крупными наземными животными, когда-либо водившимися на Земле. Современные рептилии по размерам даже отдалённо не напоминают этих рекордсменов. Мы многое знаем о них, потому что найдены останки их костей, зубов и даже окаменелые яй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82BB9-CB71-4A8E-BAE1-FEAA13E201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отношения человека и пресмыкающегося нельзя назвать простыми. Люди одновременно и опасаются рептилий, и восхищаются их мудростью, красотой. Образ рептилий очень часто воплощается в картинах художников, различных украшен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EABEF-944C-43B3-8EC8-4328CE6451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тном народном творчестве также часто упоминаются пресмыкающиеся. Так мы говори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ю на груди пригре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удьте мудры, как змии…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я подколодная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я меняет шкуру, но не меняет свою натуру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рокодиловы слёз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В воде жить, с крокодилом речь вест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Черепашьим шагом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Мудрый, как черепаха, глупый, как слон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гда спросили, чья голова красивее, черепаха высунула свою»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F3C1E-4597-42C4-ADA0-7A7501C7DE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кодил часто становился героем детских сказок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кодил Гена из сказки Э.Успенского, крокодил из произведений К.Чуковского. Известный юмористический  журнал «Крокодил» несколько десятилетий выходил в Советском Союз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C23D0-1F8C-4612-A471-45BAEB6B67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паха – любимый сказочный персонаж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с детства знаем и любим мудрую черепаху  Тортиллу из сказки А.Толстого «Золотой ключик, или Приключения Буратино», а песенку из мультфильма «Как Львёнок и Черепаха пели песню» знаем наизу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F95BF-7101-42FA-AB93-00A5B5AC63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о новых встреч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начальных классов ГБОУ СОШ №1244 г.Москвы Пичугина И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85256-E19A-456E-ABAE-4C4656E021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то такие пресмыкающие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меи, крокодилы, черепахи, ящерицы – всё это пресмыкающиеся или рептил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A7B21-552A-424C-A82A-B2A4AA408F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нам известно о пресмыкающих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го на Земле обитает около 8 тысяч видов пресмыкающих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смыкающиеся или рептилии относятся к позвоночным живот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птилии - это холоднокровные животные, у которых отсутствуют механизмы регуляции температуры те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при температуре воздуха ниже +18ᵒ жизненная активность рептилий снижается: они впадают в оцепенение  (спячку). А при температуре выше +51ᵒ пресмыкающиеся могут погибну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ще всего рептилии живут в жарких странах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D1B4F-6C68-4541-B53B-3DA62C4D4F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ме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рочие животные этого класса покрыты роговыми чешуйками, которые покрывают все тело животного, как черепица. Расцветка змеиной кожи бывает самая разнообразна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F45E2-83CC-47FB-B61D-E6F80C3A12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змеи хищники. Они могут нападать на животное намного большее её по размер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меи не пережевывают пищу, а заглатывают её целиком. Некоторые, чтобы убить добычу, используют яд, некоторые сжимают свою жертву, пока она не задохнё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крупная ядовитая змея – это азиатская королевская кобра.  Её яда хватит, чтобы убить 20 с лишним челове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меи чувствуют запахи языком, а не нос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359B8-D3EE-4146-BD92-2C3C0456F6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окодил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громные и свирепые рептилии, живущие в жарких странах. Большую часть своей жизни они проводят в воде. Когда крокодил плывёт, над водой видны только его глаза и ноздри. Некоторые крокодилы в длину достигают 6 мет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BBBAB-5F83-4D4A-B8C6-C8F2E541C1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рептилий, в том числе и крокодилы, откладывают яйца. Их яйца не твёрдые, как у птиц, а мягкие и кожист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кодилы – заботливые родители. Они охраняют свои яйца,  периодически переворачивают их для поддержания ровной температуры и влажности, а когда малыши вылупляются, помогают выбраться наружу, а порой переносят детишек к воде. «Мамы и папы» охраняют молодняк ещё несколько месяце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6AE3D-8D40-443C-9366-3BEFDF139A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пахи – рептилии, тело которых покрывает твёрдый панцир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образован костными пластинками, сросшимися с рёбрами и отростками позвонков. Брюшной и спинной щиты панциря соединены так что свободными остаются только конечности, шея и хвост. Панцирь черепахи такой тяжёлый, что они с трудом передвигаются по земле, зато отлично плавают в в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78616-7A82-4889-9FB3-9E51667A07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инство черепах так или иначе связаны с водой.  Морские  черепахи покидают тёплые моря только для того, чтобы отложи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йца. Отдельные виды черепах редко или никогда не ступают в воду, а некоторые даже приспособились к жизни в пустыне. Размеры черепах очень разнятся – от 100г (замыкающаяся черепаха) и до 700 кг(морская кожистая черепах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C68E1-6E85-40D9-AA64-392CFD4AE5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518EC-17E2-4C5A-8D3F-D0945ED1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3C7C8-E4DC-47F3-AEE8-BA5BC53D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0C8F2-32E5-4D5F-A164-AD01C6AAE9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41F47-F349-4900-AA3F-BB41464776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FF8C9-F25E-47E2-8B0D-C2710DE9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1E153-3E11-418A-8885-651B9557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615F9-1A7B-48D7-A1E2-A681732E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9A16E-00EE-4CD2-AB08-0D2E554C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D39B7-6D44-4323-951F-1ACD73C0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E8E28-85D8-4F27-A466-58E39E8A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39A08-5DE1-4F90-9552-CBC71017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D9B72-B165-4584-A451-923F47CE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130C9-E97E-4B08-89D9-4F600964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C6E82-D86F-4F61-896B-170C7256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2B2F9-04B5-44D9-835C-48B976F3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0BDC9-B538-41A1-9419-B59EC5CF12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915C-FE26-4E9E-B27E-5477ED14C7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944F-CB71-43EA-A2AE-8662B0B0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98D3-4076-458B-8552-8A08499C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1B09-DBED-480C-8CD3-7240C8A9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7B50-1EC9-4072-AE37-AAC66D84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9E448-1D34-4C3E-9EB3-B05C316E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EB56-EF63-46D2-83B6-3D03EEC3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B994-EC8A-4040-9E12-C6289653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582C-26B3-4A53-A3D8-131E4E7A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FD09-88CF-43A1-AE5F-C486D772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41C6-8610-4E39-8C1A-4B55C640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3029-96B0-4A08-A1C7-1DB42017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4868-4EAC-47EB-B389-0F8552D701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F04748-8841-4776-A59B-514A7F56DB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19475-F9D3-4D96-9B65-6CA86EEB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A249A-F7B6-45E1-AB8A-EE2FDB07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09487-C0FF-4A79-8FD8-2D3DA392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1D3BE-071E-4FDE-897D-F04B304F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020B9E-F999-43AE-B14B-FEB7EDC9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129E8-EECD-43D1-A83A-B86B9C70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E7368B-5430-4773-9B60-11DBA305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A0A79-85F8-4C65-B1B4-BBE22D12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AD699-260D-4221-8B68-A715529E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523A9-9259-4401-9495-12D6817D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82AB72-DE3D-4643-AD92-C269EBB3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BB1D7-5B9C-4E29-AB22-E868EC7C0D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3EF0DA-099C-48EE-8A38-96C6A1216C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FA834-1FB1-4C07-B037-43320136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2E4D3D-529A-4B3C-B15C-952AE090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E529B1-AF2A-4176-9EDC-009C6B80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7DED4F-6599-4349-973E-04A4D28B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E0593F-F95B-44A9-B050-53FD4AA4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01D6F7-9BEB-418D-8A1F-33F95756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46665E-FB89-4EE2-AE78-09918A3F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1E3437-D65F-4FD2-AADE-6A010712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37D551-DF1C-48FA-8093-F7FE8021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3CA4C6-2C7B-432B-9578-189989FD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855DBC-CAA0-4BAE-B9C9-7E3E5E42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75592-B76E-4EA4-A178-261CFB2F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B77476-3F56-4B91-AA3E-4A53455155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7CCF5-1B9D-458B-8FE8-30929F54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BD3FF-BEC9-410E-96AA-9B070FEE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43D97-466F-4FD2-994D-29A1D4A3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Образец подзаго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03387A9-EAF8-4FC7-933F-E7A6D06EB4C6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marL="25380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тор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Трети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етвер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я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Шест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Сед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с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B41D872-13C3-41BA-AFCE-1521A783B474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67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574800" y="272520"/>
            <a:ext cx="511020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290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43496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тор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Трети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етверты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яты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Шест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Седьм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сьм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CCFFE28-1DEA-4D05-BA89-BCD623A5346E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A646A53-E81F-4A19-8DBF-784C118BC41A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5000"/>
          </a:bodyPr>
          <a:p>
            <a:pPr marL="5112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D96B392-8663-4D1A-82A2-0BB9C6146691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1371600" y="4929120"/>
            <a:ext cx="67723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Calibri"/>
              </a:rPr>
              <a:t>Нача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857160" y="2000160"/>
            <a:ext cx="8312400" cy="21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dfdfe"/>
                </a:solidFill>
                <a:latin typeface="Calibri"/>
              </a:rPr>
              <a:t>Пресмыкающиеся (рептилии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амелеон – это ящериц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которая живёт на деревьях, обхватывая ветки хвостом и коготками. Хамелеон ловит насекомых своим длинным липким языком. Он меняет свой цвет, чтобы слиться с окружающим фоном. Это называется маскировкой, и она помогает хамелеонам скрыться от врагов. Глаза хамелеона могут одновременно смотреть в разные сторо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857160" y="442908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3214800" cy="1928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4929120" y="2214720"/>
            <a:ext cx="3286080" cy="2000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4"/>
          <a:stretch/>
        </p:blipFill>
        <p:spPr>
          <a:xfrm>
            <a:off x="4929120" y="45007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45720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нозавры, жившие  на нашей планете миллионы лет назад  – также являются представителями класса пресмыкаю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57120" y="1785960"/>
            <a:ext cx="47865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нозавры являются самыми крупными наземными животными, когда-либо водившимися на Земле. Современные рептилии по размерам даже отдалённо не напоминают этих рекордсменов. Мы многое знаем о них, потому что найдены останки их костей, зубов и даже окаменелые яй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5643720" y="214200"/>
            <a:ext cx="3286080" cy="1968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2"/>
          <a:stretch/>
        </p:blipFill>
        <p:spPr>
          <a:xfrm>
            <a:off x="5786280" y="2286000"/>
            <a:ext cx="3143520" cy="1982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3"/>
          <a:stretch/>
        </p:blipFill>
        <p:spPr>
          <a:xfrm>
            <a:off x="5715000" y="4429080"/>
            <a:ext cx="3139920" cy="21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заимоотношения человека и пресмыкающегося нельзя назвать простыми. Люди одновременно и опасаются рептилий, и восхищаются их мудростью, красотой. Образ рептилий очень часто воплощается в картинах художников, различных украш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4929120" y="4286160"/>
            <a:ext cx="3429000" cy="2428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2"/>
          <a:stretch/>
        </p:blipFill>
        <p:spPr>
          <a:xfrm>
            <a:off x="714240" y="1785960"/>
            <a:ext cx="3500640" cy="2428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3"/>
          <a:stretch/>
        </p:blipFill>
        <p:spPr>
          <a:xfrm>
            <a:off x="4857840" y="1714680"/>
            <a:ext cx="3571920" cy="2496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4"/>
          <a:stretch/>
        </p:blipFill>
        <p:spPr>
          <a:xfrm>
            <a:off x="714240" y="4286160"/>
            <a:ext cx="345600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устном народном творчестве также часто упоминаются пресмыкающиеся. Так мы говори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286080" y="1142640"/>
            <a:ext cx="5400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мею на груди пригрет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Будьте мудры, как змии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мея подколодна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мея меняет шкуру, но не меняет свою натур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Крокодиловы слёз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 воде жить, с крокодилом речь ве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Черепашьим шаго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удрый, как черепаха, глупый, как слон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Когда спросили, чья голова красивее, черепаха высунула свою»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428760" y="3357720"/>
            <a:ext cx="2286000" cy="1485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"/>
          <p:cNvPicPr/>
          <p:nvPr/>
        </p:nvPicPr>
        <p:blipFill>
          <a:blip r:embed="rId2"/>
          <a:stretch/>
        </p:blipFill>
        <p:spPr>
          <a:xfrm>
            <a:off x="357120" y="1292400"/>
            <a:ext cx="2571840" cy="1884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3"/>
          <a:stretch/>
        </p:blipFill>
        <p:spPr>
          <a:xfrm>
            <a:off x="357120" y="4929120"/>
            <a:ext cx="264312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143280" y="-360"/>
            <a:ext cx="95727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кодил часто становился героем детских сказок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кодил Гена из сказки Э.Успенского, крокодил из произведений К.Чуковского. Известный юмористический  журнал «Крокодил» несколько десятилетий выходил в Советском Союз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1719360" cy="2428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6858000" y="4500720"/>
            <a:ext cx="1643040" cy="2172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"/>
          <p:cNvPicPr/>
          <p:nvPr/>
        </p:nvPicPr>
        <p:blipFill>
          <a:blip r:embed="rId3"/>
          <a:stretch/>
        </p:blipFill>
        <p:spPr>
          <a:xfrm>
            <a:off x="3143160" y="4240080"/>
            <a:ext cx="3143520" cy="2184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4"/>
          <a:stretch/>
        </p:blipFill>
        <p:spPr>
          <a:xfrm>
            <a:off x="1000080" y="4572000"/>
            <a:ext cx="1571760" cy="2085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5"/>
          <a:stretch/>
        </p:blipFill>
        <p:spPr>
          <a:xfrm>
            <a:off x="6929280" y="1928880"/>
            <a:ext cx="1785960" cy="2394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"/>
          <p:cNvPicPr/>
          <p:nvPr/>
        </p:nvPicPr>
        <p:blipFill>
          <a:blip r:embed="rId6"/>
          <a:stretch/>
        </p:blipFill>
        <p:spPr>
          <a:xfrm>
            <a:off x="3929040" y="2071800"/>
            <a:ext cx="1643040" cy="19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епаха – любимый сказочный персонаж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2857680" y="1285920"/>
            <a:ext cx="307152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с детства знаем и любим мудрую черепаху  Тортиллу из сказки А.Толстого «Золотой ключик, или Приключения Буратино», а песенку из мультфильма «Как Львёнок и Черепаха пели песню» знаем наизу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6572160" y="1285920"/>
            <a:ext cx="2071800" cy="2816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>
            <a:off x="6000840" y="4214880"/>
            <a:ext cx="2928960" cy="2279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"/>
          <p:cNvPicPr/>
          <p:nvPr/>
        </p:nvPicPr>
        <p:blipFill>
          <a:blip r:embed="rId3"/>
          <a:stretch/>
        </p:blipFill>
        <p:spPr>
          <a:xfrm>
            <a:off x="428760" y="3786120"/>
            <a:ext cx="2214360" cy="28256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"/>
          <p:cNvPicPr/>
          <p:nvPr/>
        </p:nvPicPr>
        <p:blipFill>
          <a:blip r:embed="rId4"/>
          <a:stretch/>
        </p:blipFill>
        <p:spPr>
          <a:xfrm>
            <a:off x="142920" y="142884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1792440" y="285840"/>
            <a:ext cx="5486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1928880" y="1428840"/>
            <a:ext cx="5310000" cy="398304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3"/>
          <p:cNvSpPr/>
          <p:nvPr/>
        </p:nvSpPr>
        <p:spPr>
          <a:xfrm>
            <a:off x="3714840" y="5715000"/>
            <a:ext cx="5000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начальных классов ГБОУ СОШ №1244 г.Москвы Пичугина И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1860480" y="285840"/>
            <a:ext cx="54244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До новых встреч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такие пресмыкающие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4857840" y="1143000"/>
            <a:ext cx="2946240" cy="20145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0040" y="2142720"/>
            <a:ext cx="84297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меи, крокодилы, черепахи, ящерицы – всё это пресмыкающиеся или рептил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2"/>
          <a:stretch/>
        </p:blipFill>
        <p:spPr>
          <a:xfrm>
            <a:off x="928800" y="1143000"/>
            <a:ext cx="2857320" cy="2093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3"/>
          <a:stretch/>
        </p:blipFill>
        <p:spPr>
          <a:xfrm>
            <a:off x="928800" y="3429000"/>
            <a:ext cx="2928960" cy="2193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4"/>
          <a:stretch/>
        </p:blipFill>
        <p:spPr>
          <a:xfrm>
            <a:off x="4857840" y="3571920"/>
            <a:ext cx="3036960" cy="20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нам известно о пресмыкающих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71480" y="1142640"/>
            <a:ext cx="6429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го на Земле обитает около 8 тысяч видов пресмыкающих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смыкающиеся или рептилии относятся к позвоночным живот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птилии - это холоднокровные животные, у которых отсутствуют механизмы регуляции температуры те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при температуре воздуха ниже +18ᵒ жизненная активность рептилий снижается: они впадают в оцепенение  (спячку). А при температуре выше +51ᵒ пресмыкающиеся могут погибн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ще всего рептилии живут в жарких страна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428760" y="3214800"/>
            <a:ext cx="2214360" cy="1536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2241360" cy="1714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3"/>
          <a:stretch/>
        </p:blipFill>
        <p:spPr>
          <a:xfrm>
            <a:off x="428760" y="4857840"/>
            <a:ext cx="225900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ме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чие животные этого класса покрыты роговыми чешуйками, которые покрывают все тело животного, как черепица. Расцветка змеиной кожи бывает самая разнообразна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428760" y="2071800"/>
            <a:ext cx="4071960" cy="4143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4786200" y="2143080"/>
            <a:ext cx="400068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457200" y="272880"/>
            <a:ext cx="44719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500800" y="4643280"/>
            <a:ext cx="3071880" cy="19288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457200" y="428760"/>
            <a:ext cx="4543560" cy="66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змеи хищники. Они могут нападать на животное намного большее её по разме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меи не пережевывают пищу, а заглатывают её целиком. Некоторые, чтобы убить добычу, используют яд, некоторые сжимают свою жертву, пока она не задохнё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ая крупная ядовитая змея – это азиатская королевская кобра.  Её яда хватит, чтобы убить 20 с лишним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меи чувствуют запахи языком, а не но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5429160" y="2571840"/>
            <a:ext cx="3143520" cy="1928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>
            <a:off x="5429160" y="285840"/>
            <a:ext cx="3143520" cy="21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окодил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огромные и свирепые рептилии, живущие в жарких странах. Большую часть своей жизни они проводят в воде. Когда крокодил плывёт, над водой видны только его глаза и ноздри. Некоторые крокодилы в длину достигают 6 метр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714760" y="4643280"/>
            <a:ext cx="3786120" cy="2071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642960" y="1714680"/>
            <a:ext cx="3429000" cy="2757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3"/>
          <a:stretch/>
        </p:blipFill>
        <p:spPr>
          <a:xfrm>
            <a:off x="4780080" y="1714680"/>
            <a:ext cx="3624120" cy="27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428760" y="272880"/>
            <a:ext cx="46432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инство рептилий, в том числе и крокодилы, откладывают яйца. Их яйца не твёрдые, как у птиц, а мягкие и кожист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5500800" y="4429080"/>
            <a:ext cx="3286080" cy="20001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457200" y="1928880"/>
            <a:ext cx="468648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кодилы – заботливые родители. Они охраняют свои яйца,  периодически переворачивают их для поддержания ровной температуры и влажности, а когда малыши вылупляются, помогают выбраться наружу, а порой переносят детишек к воде. «Мамы и папы» охраняют молодняк ещё несколько меся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3286080" cy="1857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"/>
          <p:cNvPicPr/>
          <p:nvPr/>
        </p:nvPicPr>
        <p:blipFill>
          <a:blip r:embed="rId3"/>
          <a:stretch/>
        </p:blipFill>
        <p:spPr>
          <a:xfrm>
            <a:off x="5429160" y="2143080"/>
            <a:ext cx="3286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28760" y="0"/>
            <a:ext cx="40719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пахи – рептилии, тело которых покрывает твёрдый панцир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697280" y="2712960"/>
            <a:ext cx="1801800" cy="13575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3"/>
          <p:cNvSpPr/>
          <p:nvPr/>
        </p:nvSpPr>
        <p:spPr>
          <a:xfrm>
            <a:off x="428760" y="1571760"/>
            <a:ext cx="4000320" cy="48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образован костными пластинками, сросшимися с рёбрами и отростками позвонков. Брюшной и спинной щиты панциря соединены так что свободными остаются только конечности, шея и хвост. Панцирь черепахи такой тяжёлый, что они с трудом передвигаются по земле, зато отлично плавают в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6643800" y="2500200"/>
            <a:ext cx="2357280" cy="1643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3"/>
          <a:stretch/>
        </p:blipFill>
        <p:spPr>
          <a:xfrm>
            <a:off x="5143680" y="214200"/>
            <a:ext cx="3000240" cy="2125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4"/>
          <a:stretch/>
        </p:blipFill>
        <p:spPr>
          <a:xfrm>
            <a:off x="5643720" y="4357800"/>
            <a:ext cx="30715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шинство черепах так или иначе связаны с водой.  Морские  черепахи покидают тёплые моря только для того, чтобы отложи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йца. Отдельные виды черепах редко или никогда не ступают в воду, а некоторые даже приспособились к жизни в пустыне. Размеры черепах очень разнятся – от 100г (замыкающаяся черепаха) и до 700 кг(морская кожистая черепах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500800" y="3000240"/>
            <a:ext cx="3500280" cy="3214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142920" y="307188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"/>
          <p:cNvPicPr/>
          <p:nvPr/>
        </p:nvPicPr>
        <p:blipFill>
          <a:blip r:embed="rId3"/>
          <a:stretch/>
        </p:blipFill>
        <p:spPr>
          <a:xfrm>
            <a:off x="3357720" y="3071880"/>
            <a:ext cx="2087280" cy="2982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5T09:29:21Z</dcterms:modified>
  <cp:revision>4</cp:revision>
  <dc:subject/>
  <dc:title>Презентація PowerPoint</dc:title>
</cp:coreProperties>
</file>